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234D-9C5B-4BC7-B0C9-8C28652D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A5C-5E22-4C50-89C3-8AA111D1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A3F1-5181-4AB0-B818-A32D73C2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95BD-F12A-4F27-A21B-6F63B650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7630-A7F0-4030-AB8F-84C7B4C7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CD85-7717-403D-ABCD-0DE6CE2A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06CD-9D38-4067-8F8C-AF59EFE6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707B-F467-4E11-AA09-98283459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A905-3C94-447F-B147-01FEB388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6C2A-8B55-4539-9716-688913AB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2E1F-CBF3-40E9-A9FF-7AFF6636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B0F-7629-4D7B-878C-50E1ACA2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7321-448A-42CA-893B-86799E48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8D39-1A38-465C-9D3D-438AB806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2A27-998C-4057-A0F4-3D8AA307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57AA-8AFE-4423-92F0-19C2B3EF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2282-F7CC-4C5C-A447-B02D1E7C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6CE5-09D8-4E80-B932-4F7B1FB5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6BD-2869-4A9D-8A66-3C4E4A09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BE36-E9F4-4733-8FD9-A2A886D2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E7E-C632-44BD-A29F-C94B62C8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F3E-5F72-4250-A793-AC1058E9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4FCC-8E51-4558-8BBD-A5A083FB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240-F410-49D9-B930-CE02AFD2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525F-2839-452F-9F67-98CD4ECEA4B9}" type="slidenum">
              <a:rPr b="0" lang="el-G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5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6" name="Picture 4" descr="slidemaster_med3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" descr="titlemaster_med"/>
          <p:cNvPicPr/>
          <p:nvPr/>
        </p:nvPicPr>
        <p:blipFill>
          <a:blip r:embed="rId4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3FB7-D62D-48F3-9784-EF4327785391}" type="slidenum">
              <a:rPr b="0" lang="el-G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333333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Historical Development of an Atom</a:t>
            </a:r>
            <a:endParaRPr b="0" lang="en-US" sz="5400" spc="-1" strike="noStrike">
              <a:solidFill>
                <a:srgbClr val="fff4c3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Niels Bohr 1913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iels Bohr improved 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Rutherford’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mode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proposed that electrons move around the nucleus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pecific layer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shell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very atom has a specific number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electron shell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Niels Bohr 1913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move in orbits arou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nucle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energy level = 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energy level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elec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energy level = 18 elec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energ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level = 32 elec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Niels Bohr 1913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 Draw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lectrons orbit the positive nucleus on energy leve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44" descr="http://t1.gstatic.com/images?q=tbn:ANd9GcQPRy_b6UHLiaDkEsgJzF_vUL1yn2mcjzUD5a3fSuywHCwlMYQ&amp;t=1&amp;usg=__1gh2vHHII44RtfdNjk6yWmTJbhw="/>
          <p:cNvPicPr/>
          <p:nvPr/>
        </p:nvPicPr>
        <p:blipFill>
          <a:blip r:embed="rId1"/>
          <a:stretch/>
        </p:blipFill>
        <p:spPr>
          <a:xfrm>
            <a:off x="3962520" y="2362320"/>
            <a:ext cx="2357280" cy="23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Erwin Schrödinger</a:t>
            </a:r>
            <a:br>
              <a:rPr sz="3600"/>
            </a:b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Electron Cloud Model</a:t>
            </a:r>
            <a:br>
              <a:rPr sz="3600"/>
            </a:b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1925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9807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Electron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do not follow fixed orbits, but tend to occur more frequently in certain areas around the nucle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impossible to know where an electron is at any given ti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Erwin Schrödinger</a:t>
            </a:r>
            <a:br>
              <a:rPr sz="3600"/>
            </a:b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Electron Cloud Model</a:t>
            </a:r>
            <a:br>
              <a:rPr sz="3600"/>
            </a:b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1925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90188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 Draw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lectrons are located in clou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Picture 29" descr="Go to fullsize image"/>
          <p:cNvPicPr/>
          <p:nvPr/>
        </p:nvPicPr>
        <p:blipFill>
          <a:blip r:embed="rId1"/>
          <a:stretch/>
        </p:blipFill>
        <p:spPr>
          <a:xfrm>
            <a:off x="4876920" y="2666880"/>
            <a:ext cx="228600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James Chadwick 1932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dwick discover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neu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worked with Rutherford and discovered particles 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no char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called those particles neu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re found in the nucleus of an ato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James Chadwick 1932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 Draw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lectrons orbit the positive nucleus which contains protons and neutr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7" name="Picture 4" descr="http://wiki.one-school.net/images/thumb/d/d4/ChadwicksModel.png/400px-ChadwicksModel.png"/>
          <p:cNvPicPr/>
          <p:nvPr/>
        </p:nvPicPr>
        <p:blipFill>
          <a:blip r:embed="rId1"/>
          <a:stretch/>
        </p:blipFill>
        <p:spPr>
          <a:xfrm>
            <a:off x="3200400" y="2514600"/>
            <a:ext cx="380988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Democritus 460 B.C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mocritus wa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Greek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hilosopher who is the father of modern atomic though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 proposed that matt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could NOT be divide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nto smaller pieces forever.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 believed that matter was made of small, hard, particles, that he called “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atomo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2" descr="C:\Documents and Settings\vmhoey\Local Settings\Temporary Internet Files\Content.IE5\EY3IF2L9\MC900353612[1].wmf"/>
          <p:cNvPicPr/>
          <p:nvPr/>
        </p:nvPicPr>
        <p:blipFill>
          <a:blip r:embed="rId1"/>
          <a:stretch/>
        </p:blipFill>
        <p:spPr>
          <a:xfrm>
            <a:off x="7772400" y="380880"/>
            <a:ext cx="92088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John Dalton 1807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14600" y="11430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e built upon Democritus’s atomic theor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tter is made up of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atom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toms cannot be divided into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smaller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piec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the atoms of an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element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re exactly the sam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ifferent elements hav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different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kinds of atom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mpounds form by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alibri"/>
              </a:rPr>
              <a:t>combining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atom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John Dalton 1807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 Draw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lid throughou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ame throughou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Oval 5"/>
          <p:cNvSpPr/>
          <p:nvPr/>
        </p:nvSpPr>
        <p:spPr>
          <a:xfrm>
            <a:off x="4114800" y="3657600"/>
            <a:ext cx="3276720" cy="2741760"/>
          </a:xfrm>
          <a:prstGeom prst="ellipse">
            <a:avLst/>
          </a:prstGeom>
          <a:solidFill>
            <a:srgbClr val="c892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J.J. Thomson 1898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rticl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maller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an the atom exi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cover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electron,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which is negatively charg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atoms have negative particles, then atoms must also ha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positiv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articl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J.J. Thomson 1898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 Draw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sitive and negative partic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http://demo.classontheweb.com/TNMatric/ClassXII/images/ThomsonAtomModel.jpg"/>
          <p:cNvPicPr/>
          <p:nvPr/>
        </p:nvPicPr>
        <p:blipFill>
          <a:blip r:embed="rId1"/>
          <a:stretch/>
        </p:blipFill>
        <p:spPr>
          <a:xfrm>
            <a:off x="3733920" y="2590920"/>
            <a:ext cx="3276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Ernest Rutherford 1911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437920" y="1599840"/>
            <a:ext cx="6324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utherford perform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gold foi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experime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his experiment a radio active beam emitted (+) alpha particles toward gold foi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st particles went through, some w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deflecte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and other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bounce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back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showed that atoms have a very dense (+) cent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Ernest Rutherford 1911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utherford showed that atoms have (+) particles in the center and are most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empt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pa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called the center of the atom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nucleu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mas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f an atom and its positive charge are located in the nucleu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4c3"/>
                </a:solidFill>
                <a:latin typeface="Calibri"/>
              </a:rPr>
              <a:t>Ernest Rutherford 1911</a:t>
            </a:r>
            <a:endParaRPr b="0" lang="en-US" sz="3600" spc="-1" strike="noStrike">
              <a:solidFill>
                <a:srgbClr val="fff4c3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del Draw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sitive nucle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dc7a0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gative particles surround nucle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28" descr="http://t3.gstatic.com/images?q=tbn:ANd9GcTgrD1j-IBUDbdVr38IZo8q7EFyhZL2q2rKNdsFPHvnwl3iv48&amp;t=1&amp;usg=__LRymzpuCoJCrSY7irOwMbTKtnd0="/>
          <p:cNvPicPr/>
          <p:nvPr/>
        </p:nvPicPr>
        <p:blipFill>
          <a:blip r:embed="rId1"/>
          <a:stretch/>
        </p:blipFill>
        <p:spPr>
          <a:xfrm>
            <a:off x="4876920" y="2209680"/>
            <a:ext cx="2894040" cy="2894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1:42:31Z</dcterms:created>
  <dc:creator>Gabrielle N. Walton</dc:creator>
  <dc:description/>
  <dc:language>en-US</dc:language>
  <cp:lastModifiedBy>James Scheuer</cp:lastModifiedBy>
  <dcterms:modified xsi:type="dcterms:W3CDTF">2016-11-14T13:59:46Z</dcterms:modified>
  <cp:revision>56</cp:revision>
  <dc:subject/>
  <dc:title>Historical Development of an Atom</dc:title>
</cp:coreProperties>
</file>